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138-85AF-4E65-97A2-CAEF7A72F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26AA-E26C-4E48-9DF4-02224A2F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4DA-B1F4-4D8D-86B5-D9BC855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16A-DEC2-4947-9DEE-17D09A65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D73-B5F9-42D4-A3F4-679E486D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439-C3EF-4AB6-811F-224DF25F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814-7D61-4CF1-99C3-FEF98E73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CF6-26E9-4A44-B078-1B2DC3FD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729-B17B-4AB3-B27C-1549D1AF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263-C5B4-441D-9BE0-272F83FF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1FC-F2F4-40B4-B804-7C87215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A37-9313-4989-933E-5599E64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BF4-CB34-40C7-8DBB-FB9542F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90C-D0AA-4F86-8CFF-EC90C8F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82ED-80F9-4F6E-84C0-CF322CB3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Lesley. Yo vivo en Queens, Nueve York.  Yo tengo 14 años. Yo tengo una hermana y un hermano. Yo soy chistosa y mi gusta la mu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01:57Z</dcterms:modified>
  <cp:revision>98</cp:revision>
  <dc:subject/>
  <dc:title>Profile</dc:title>
</cp:coreProperties>
</file>